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B34-A788-441C-A607-CC982D12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A75-BDA6-46E8-AC9E-537EE3F8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D93-03BD-43E5-B002-EC65B310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0C8-56E8-4F2F-BE18-A9C5AEE4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167D-9A83-4213-9FA8-3E4553A8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EF15-512A-4DD2-A68E-FDC76E23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37A9-A1BB-42BB-97EB-9CF455B1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DDAC-38C5-4582-AC88-35C91B22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550D-D5D3-4E47-8D47-E9EC55C2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43AE-F133-4A2B-BC51-74F7CA86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8E61-14B2-4DEB-907E-D4EB726B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3E9-F7A4-4ACD-903F-1D899B2C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FDE4-A3EF-4F4D-B371-006E49F2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001A-1A44-4B34-854D-C484E050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861C-2312-4D95-8097-71A815FC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2EE7-08AE-42A5-8C76-6F981DA5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9F49-F581-4259-BD49-255EC8E1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FB0-7934-4F97-BEAD-26335420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BF1-4BFA-4F53-864D-AF691025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821-DC55-40CD-B170-AC2CA27D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8D3-9542-41C9-8476-97B8AE07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A70-58D0-4245-B0AD-F93C3F52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225-6A68-4B7E-84AD-BD3DB51C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849-B398-494A-9421-D6AB813D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3167-B596-4B81-A173-3B65BD16463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17EF-6D0B-41F5-B6E1-E4B316688C6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a3d7a"/>
                </a:solidFill>
                <a:latin typeface="Times New Roman"/>
              </a:rPr>
              <a:t>Biomes</a:t>
            </a:r>
            <a:endParaRPr b="0" lang="en-US" sz="88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3d7a"/>
                </a:solidFill>
                <a:latin typeface="Times New Roman"/>
              </a:rPr>
              <a:t>Desert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A sandy or rocky biome, with little precipitation and little plant lif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5007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Animals of the Desert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dents, snakes, lizards, tortoises, insects, and some birds.  The Sahara Desert in Africa is home to camels, gazelles, antelopes, small foxes, snakes, lizards, and gerbi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2266920" cy="3276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90920" y="4114800"/>
            <a:ext cx="2489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3d7a"/>
                </a:solidFill>
                <a:latin typeface="Times New Roman"/>
              </a:rPr>
              <a:t>Tundra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A cold biome of the far north; the ground is frozen even in summe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19717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Animals of the Tundra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Musk oxen, migrating caribou, arctic foxes, weasels, snowshoe hares, owls, hawks, various rodents, occasional polar bear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66680" y="4290840"/>
            <a:ext cx="4038840" cy="256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43600" y="3962520"/>
            <a:ext cx="24177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Grasslan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A biome where grasses, not trees, are the main plant life.  Prairies are one kind of grassland region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15000" y="4405320"/>
            <a:ext cx="29941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Grassland animals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American Grasslands:  Prairie dogs, foxes, small mammals, snakes, insects, various bird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43400" y="4167360"/>
            <a:ext cx="3859200" cy="1901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600200" y="3962520"/>
            <a:ext cx="25146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Grassland animals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African Grasslands:  Elephants, lions, zebras, giraff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029200" y="3657600"/>
            <a:ext cx="3657600" cy="2082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00200" y="3581280"/>
            <a:ext cx="23130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5249"/>
                </a:solidFill>
                <a:latin typeface="Times New Roman"/>
              </a:rPr>
              <a:t>A biome is one of Earth’s large ecosystems, with its own kind of climate, soil, plants, and animals.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3d7a"/>
                </a:solidFill>
                <a:latin typeface="Times New Roman"/>
              </a:rPr>
              <a:t>Six major biomes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aiga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Deciduous fores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ropical rain fores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Deser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Grassland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91120" y="3352680"/>
            <a:ext cx="45003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3d7a"/>
                </a:solidFill>
                <a:latin typeface="Times New Roman"/>
              </a:rPr>
              <a:t>Taiga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A cool forest biome of conifers in the upper Northern Hemispher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33920" y="4648320"/>
            <a:ext cx="18208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3d7a"/>
                </a:solidFill>
                <a:latin typeface="Times New Roman"/>
              </a:rPr>
              <a:t>Animals of the Taiga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Rodents, snowshoe hares, lynx, sables, ermine, caribou, bears, wolves, birds in summer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3880" y="4383000"/>
            <a:ext cx="3276720" cy="1835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2240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3d7a"/>
                </a:solidFill>
                <a:latin typeface="Times New Roman"/>
              </a:rPr>
              <a:t>Deciduous Forest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A forest biome with many kinds of trees that lose their leaves each autumn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19520" y="472428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267080" y="441972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486400" y="480060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7086600" y="419112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762120" y="487692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733920" y="5172120"/>
            <a:ext cx="1493640" cy="1685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6477120" y="5172120"/>
            <a:ext cx="1493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imals of the Deciduous Fores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Wolves, deer, bears, and a wide variety of small mammals, birds, amphibians, reptiles, and insect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4572000"/>
            <a:ext cx="2895480" cy="1601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861160" y="3962520"/>
            <a:ext cx="1927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3d7a"/>
                </a:solidFill>
                <a:latin typeface="Times New Roman"/>
              </a:rPr>
              <a:t>Tropical Rain Forest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A hot, humid biome near the equator, with much rainfall and a wide variety of lif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2362320" cy="2219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5257800" y="4800600"/>
            <a:ext cx="1600200" cy="990720"/>
          </a:xfrm>
          <a:prstGeom prst="line">
            <a:avLst/>
          </a:prstGeom>
          <a:ln w="38160">
            <a:solidFill>
              <a:srgbClr val="090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5486400"/>
            <a:ext cx="18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equato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038480" y="5790960"/>
            <a:ext cx="1067040" cy="152280"/>
          </a:xfrm>
          <a:prstGeom prst="line">
            <a:avLst/>
          </a:prstGeom>
          <a:ln w="28440">
            <a:solidFill>
              <a:srgbClr val="09080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Animals of the Tropical Rain Forest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More species of insects, reptiles, and amphibians than any place else; monkeys, other small and large mammals, including in some places elephants, all sorts of colorful bird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86200" y="4572000"/>
            <a:ext cx="144792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505560" y="4495680"/>
            <a:ext cx="2224080" cy="2362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28051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9:06:18Z</dcterms:created>
  <dc:creator>skelley</dc:creator>
  <dc:description/>
  <dc:language>en-US</dc:language>
  <cp:lastModifiedBy>WinuE</cp:lastModifiedBy>
  <dcterms:modified xsi:type="dcterms:W3CDTF">2009-11-02T19:59:36Z</dcterms:modified>
  <cp:revision>2</cp:revision>
  <dc:subject/>
  <dc:title>Biomes</dc:title>
</cp:coreProperties>
</file>